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99CE-2C9C-4582-9F6D-B8F752F8C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5835-E042-46B2-9EF4-8DF08D5963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578-0AB6-4BF1-963D-AA79ADF9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C89-010C-4FC5-899F-8AFBBEF9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51B-3AE6-4C40-94E2-0E8DC382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106-06E8-42E8-8847-6828B042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695-40A8-4D17-83DF-81DA8250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701-57D7-4FFF-8C99-ECD5EC78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817-D27A-4DE3-80EA-ECE684B7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63C-C371-4B7E-902F-DF038662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44B-24FE-44A4-8D46-CF31EBE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5B9-31A2-463D-8918-F917F518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ADA-37C4-4EB3-8AEC-0DFB9647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DC3-6A28-4480-9350-6A674E95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32BC-3D30-4BFD-A439-1205B36E1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ur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25780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11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2986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ub 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76320" y="76320"/>
            <a:ext cx="5562000" cy="609480"/>
            <a:chOff x="76320" y="76320"/>
            <a:chExt cx="5562000" cy="6094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1283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1392120" y="150120"/>
              <a:ext cx="4246200" cy="48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04920" y="387036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d Pages 14-19, 35, &amp; 37-41 to complete the workshe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066680"/>
            <a:ext cx="8153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99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gnetism and Static Electricit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99ff33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99ff3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 Assignment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100000">
                    <a:srgbClr val="99ff33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Read Pages 14-19, 35, &amp; 37-41 to complet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sm and Electricity Textbook Assig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extbook assignment is finished early…COMPLETE KEY QUESTIONS 14 &amp;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D STEP 2: Due Monday – construct and bring switch in to class w/o p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fference between static charge and magnetic p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A4813D8E-7E9A-4D2E-A293-56ED80180FD6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shape of magnetic fiel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magnetic fields and how electric charges intera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electric charges build-up and transf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0" y="0"/>
            <a:ext cx="2286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:  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320" y="152280"/>
            <a:ext cx="6705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gnetism &amp; Static Electr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book Assign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9144000" cy="10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PAGES 14-19 TO ANSWER QUESTIONS 1-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art of an atom spins to produce a magnetic field?  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most materials not magnetic?  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 domain arrangements of magnetized and not magnetized materials compare?  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common ferromagnetic materials found in nature?  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 temporary magnet from a paperclip?  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wo different ways to destroy a magnet?  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break a magnet in half?  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ELECTRIC CHARGE” (PAGE 35) TO ANSWER QUESTIONS 8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that are the same ____________________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that are different ____________________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one important difference between electric charges and magnetic poles?  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434880"/>
            <a:ext cx="9144000" cy="75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STATIC ELCTRICITY” (PAGE 37) TO ANSWER QUESTIONS 11 &amp;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tatic electricity?  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static mean?  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TRANSFERRING CHARGE” (PAGES 38 &amp; 39) TO ANSWER QUESTIONS 13-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____________________ is the transfer of electrons from one uncharged object to another by 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____________________ is the transfer of electrons from a charged object to another by direct 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by ____________________ is the transfer of electrons to one part of an object that is caused by the electr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 of a second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 “STATIC DISCHARGE” (PAGES 40 &amp; 41) TO ANSWER QUESTIONS 16 &amp; 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negatively and positively charged objects are brought near each other?  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ny spark you see when touching a doorknob and lightning are both examples of 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3258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oject Step 2:  Due MOND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ey Questions 11-15 Due Friday, March 26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(typed!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like magnetic poles which must be in pairs, electric charges can stand al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AnswerNow"/>
          <p:cNvGrpSpPr/>
          <p:nvPr/>
        </p:nvGrpSpPr>
        <p:grpSpPr>
          <a:xfrm>
            <a:off x="3048120" y="152280"/>
            <a:ext cx="2222280" cy="444240"/>
            <a:chOff x="3048120" y="152280"/>
            <a:chExt cx="2222280" cy="444240"/>
          </a:xfrm>
        </p:grpSpPr>
        <p:sp>
          <p:nvSpPr>
            <p:cNvPr id="74" name="ANShape"/>
            <p:cNvSpPr/>
            <p:nvPr/>
          </p:nvSpPr>
          <p:spPr>
            <a:xfrm>
              <a:off x="3048120" y="15228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NText"/>
            <p:cNvSpPr/>
            <p:nvPr/>
          </p:nvSpPr>
          <p:spPr>
            <a:xfrm>
              <a:off x="3048120" y="15228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0:52:52Z</dcterms:created>
  <dc:creator>CCPS</dc:creator>
  <dc:description/>
  <dc:language>en-US</dc:language>
  <cp:lastModifiedBy>CCPS</cp:lastModifiedBy>
  <dcterms:modified xsi:type="dcterms:W3CDTF">2010-03-10T20:53:37Z</dcterms:modified>
  <cp:revision>1</cp:revision>
  <dc:subject/>
  <dc:title>Slide 1</dc:title>
</cp:coreProperties>
</file>